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1E1B-FFD2-44DD-927C-D7E78D387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7781-85D5-4F52-9F2D-23EA8E5E4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3742-1B9C-468C-9A9A-229DB8573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4198-B75F-49CE-84EA-550D758F69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D3E8-EE81-4ECA-A6E2-9FE694BB58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89E4-A561-4EDD-BEBA-BA7FBD58C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2DBB-2F9F-4E72-8704-0D3BAB004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4E10-BE9D-4FBB-A811-AE1160C7C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4A17-B940-407F-84EE-9DF1BCD52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295D-84CB-4DB2-9686-E8BA084E7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A3AE-520B-4203-BA1C-0CC932D4B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1416-B70A-4C4D-AA24-AAD0411BD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EB43-C19D-4431-BEF7-2D4AB03792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4445-76FF-498D-814A-683F60A465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ifferent Ways of Thinking Abou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9040" y="1174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will deepen our understanding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different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our own experiences may bias us in terms of the type of fractions we default to and/or the type of representations we se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42E4-A821-44ED-B365-0AA5107760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3EA6-571C-473A-A364-FD9F8A3E31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lacemat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understanding of fractions (what you remember from school, contexts you use them, representations for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nformation recorded by each person and consolidate it in the centre of the place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2704-5182-4B99-8D5D-EA27550F7C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1584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variety of manipulatives, identify a fraction and then represent it in as many ways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ach model on a stick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FB26-AEB4-4BC3-BE74-FBC957568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rt and Discus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sticky notes on the chart paper under each of the different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lacement with others as you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ED73-A838-4F1B-8B58-87872F7DF5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aking Mea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361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into 7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roup takes one sheet or faction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your group to organize and annotate to add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390F-001A-48F7-B2D7-C255AC675D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brief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7440" y="1211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riteria did you use to group the sticky notes on your p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were difficult to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did you chose to move to another page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questions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this sort of activity relate to the mathematical proc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D2DA-139A-4668-9185-A705F92FB0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Blair, Danielle</cp:lastModifiedBy>
  <dcterms:modified xsi:type="dcterms:W3CDTF">2012-07-24T19:50:38Z</dcterms:modified>
  <cp:revision>33</cp:revision>
  <dc:subject/>
  <dc:title>&lt;Title&gt;</dc:title>
</cp:coreProperties>
</file>